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5C8-EF48-4547-B907-929C2D58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701-9730-46B9-8BF6-1E510E4F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21E-DFBC-4213-870C-768B7222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505-EDE8-47A0-BDA0-BB581A45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E41-879F-4EB8-A0FA-09CB46C3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E49-FAA5-4249-9CB1-9B44E91A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DE4-1C23-4AC5-A6FD-5F4EDF4C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BB3-F2AE-4A36-BAE7-92D2195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523-8919-44BF-99AC-50762A41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2D1-4489-4746-B10D-DCF2E260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0DC-9F2A-4063-B3C1-97D0FB3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AAB-240C-4273-B598-5D49FBE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FDB-484A-44FE-BAC6-05190947A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onathan ree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6:36Z</dcterms:modified>
  <cp:revision>94</cp:revision>
  <dc:subject/>
  <dc:title>Ancient Greece</dc:title>
</cp:coreProperties>
</file>